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2CD-CE1A-4B2F-87DA-4A2B98AC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B03-9942-4441-86CC-48B0F739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6ED-4914-45CD-AE96-B4FD7943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25F-A638-4A2C-9FD8-EB8C4E4A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C67-9ECE-4673-A7A8-903EBF67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237-3550-4C3A-AC89-91A0AA20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26B-9277-4F03-BB86-A544AA95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3376-8108-4395-B2F5-A9D66210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97BD-7FC1-4264-B5A3-ED746796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B8D8-8BF3-479E-AD8B-BD0F3B41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BA8-1F5D-4AB4-BDC7-035F9C6B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9A9-951D-4051-9465-FB5A8E62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AA03-DDA1-4898-99DB-17E391550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_  Clase 7 il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1 de octubre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6996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3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e gusta mas jugar o dorm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 full Spanish sentences, Write 2 things that you like and 2 things that you dis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14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un compañero, 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15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9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at least 5 sentences in your noteboo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 11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4:51:34Z</dcterms:created>
  <dc:creator>Helen Zumaeta</dc:creator>
  <dc:description/>
  <dc:language>en-US</dc:language>
  <cp:lastModifiedBy>Helen Zumaeta</cp:lastModifiedBy>
  <dcterms:modified xsi:type="dcterms:W3CDTF">2012-10-11T01:47:39Z</dcterms:modified>
  <cp:revision>7</cp:revision>
  <dc:subject/>
  <dc:title>Me llamo __________    Clase 7 IM La fecha es el 28 de enero del 2011</dc:title>
</cp:coreProperties>
</file>